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wmf" ContentType="image/x-wmf"/>
  <Override PartName="/ppt/media/image9.jpeg" ContentType="image/jpeg"/>
  <Override PartName="/ppt/media/image11.jpeg" ContentType="image/jpeg"/>
  <Override PartName="/ppt/media/image12.wmf" ContentType="image/x-wmf"/>
  <Override PartName="/ppt/media/image24.gif" ContentType="image/gif"/>
  <Override PartName="/ppt/media/image7.wmf" ContentType="image/x-wmf"/>
  <Override PartName="/ppt/media/image6.wmf" ContentType="image/x-wmf"/>
  <Override PartName="/ppt/media/image5.gif" ContentType="image/gif"/>
  <Override PartName="/ppt/media/image14.jpeg" ContentType="image/jpeg"/>
  <Override PartName="/ppt/media/image16.wmf" ContentType="image/x-wmf"/>
  <Override PartName="/ppt/media/image23.gif" ContentType="image/gif"/>
  <Override PartName="/ppt/media/image22.wmf" ContentType="image/x-wmf"/>
  <Override PartName="/ppt/media/image2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25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F60F3-F4F7-4680-99E3-143777735C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4A051-D3B9-4E3C-8B1E-77625AAF0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D75AA-383A-4562-BB4E-8EF3744FE9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16D0B-2D6C-41D9-A8B6-6117526FD1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59FA5-0783-4515-81CF-3E84CF0896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42504-363F-4D6E-8E36-4F2658EFBC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86E06-A55F-4B4B-B8F3-90D8FFA821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9A03B-0914-43B3-96E6-5CA5553B64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2A1C6-8D32-4386-BFE9-9FAB5D68B0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5772A-9551-43B8-BA2F-86368D1D2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2C460-5786-4A4F-8C75-52B960CEBF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B613A-69CD-4701-BE79-0337AFB6AC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D829-4A1C-4579-BEEE-A131AE7D5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62120" y="61722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762120" y="632448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A. Weinbe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3"/>
          <p:cNvSpPr txBox="1"/>
          <p:nvPr/>
        </p:nvSpPr>
        <p:spPr>
          <a:xfrm>
            <a:off x="1676520" y="4191120"/>
            <a:ext cx="619128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Harlow"/>
              </a:rPr>
              <a:t>Animal Adaptations</a:t>
            </a:r>
            <a:endParaRPr b="0" lang="en-US" sz="60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Harlow"/>
              <a:ea typeface="Harlow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971800" y="5257800"/>
            <a:ext cx="3733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Yukon Font"/>
              </a:rPr>
              <a:t>SOL 3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Yukon Font"/>
              </a:rPr>
              <a:t>By Ms. Weinber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457200" y="304920"/>
            <a:ext cx="8305920" cy="6248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animal-camouflage-1"/>
          <p:cNvPicPr/>
          <p:nvPr/>
        </p:nvPicPr>
        <p:blipFill>
          <a:blip r:embed="rId1"/>
          <a:stretch/>
        </p:blipFill>
        <p:spPr>
          <a:xfrm>
            <a:off x="2743200" y="685800"/>
            <a:ext cx="4267080" cy="28177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1828800" y="1600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8"/>
          <p:cNvSpPr/>
          <p:nvPr/>
        </p:nvSpPr>
        <p:spPr>
          <a:xfrm>
            <a:off x="2514600" y="182880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8"/>
          <p:cNvSpPr/>
          <p:nvPr/>
        </p:nvSpPr>
        <p:spPr>
          <a:xfrm>
            <a:off x="1295280" y="4038480"/>
            <a:ext cx="7239240" cy="129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143000" y="4343400"/>
            <a:ext cx="7467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Yukon Font"/>
              </a:rPr>
              <a:t>Chemical defenses</a:t>
            </a: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 (like venom, ink, spray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752480" y="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Yukon Font"/>
              </a:rPr>
              <a:t>Physical adap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1981080" y="1219320"/>
          <a:ext cx="2100240" cy="26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2100240" cy="26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Picture 6" descr="j0112196"/>
          <p:cNvPicPr/>
          <p:nvPr/>
        </p:nvPicPr>
        <p:blipFill>
          <a:blip r:embed="rId3"/>
          <a:stretch/>
        </p:blipFill>
        <p:spPr>
          <a:xfrm>
            <a:off x="4191120" y="2133720"/>
            <a:ext cx="4114800" cy="1517400"/>
          </a:xfrm>
          <a:prstGeom prst="rect">
            <a:avLst/>
          </a:prstGeom>
          <a:ln w="0">
            <a:noFill/>
          </a:ln>
        </p:spPr>
      </p:pic>
    </p:spTree>
  </p:cSld>
  <p:transition spd="med" advTm="18000">
    <p:fade thruBlk="true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838080" y="609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Body coverings &amp; parts (claws, beaks, feet, armor plates, skulls, tee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752480" y="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Yukon Font"/>
              </a:rPr>
              <a:t>Physical adap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elephant"/>
          <p:cNvPicPr/>
          <p:nvPr/>
        </p:nvPicPr>
        <p:blipFill>
          <a:blip r:embed="rId1"/>
          <a:stretch/>
        </p:blipFill>
        <p:spPr>
          <a:xfrm>
            <a:off x="1828800" y="1676520"/>
            <a:ext cx="5334120" cy="35398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533520" y="5486400"/>
            <a:ext cx="7772400" cy="1143000"/>
          </a:xfrm>
          <a:prstGeom prst="rect">
            <a:avLst/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The elephant</a:t>
            </a:r>
            <a:r>
              <a:rPr b="0" lang="ja-JP" sz="2400" spc="-1" strike="noStrike">
                <a:solidFill>
                  <a:srgbClr val="000000"/>
                </a:solidFill>
                <a:latin typeface="Lucida Casu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s </a:t>
            </a:r>
            <a:r>
              <a:rPr b="0" lang="en-US" sz="2400" spc="-1" strike="noStrike">
                <a:solidFill>
                  <a:srgbClr val="993300"/>
                </a:solidFill>
                <a:latin typeface="Copperplate Gothic Light"/>
              </a:rPr>
              <a:t>trunk</a:t>
            </a:r>
            <a:r>
              <a:rPr b="0" lang="en-US" sz="2400" spc="-1" strike="noStrike">
                <a:solidFill>
                  <a:srgbClr val="000000"/>
                </a:solidFill>
                <a:latin typeface="Copperplate Gothic Ligh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is a physical adaptation that helps it to clean itself, eat, drink, and to pick things up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zoom dir="in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523880" y="533520"/>
            <a:ext cx="5867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Now let</a:t>
            </a:r>
            <a:r>
              <a:rPr b="0" lang="ja-JP" sz="3200" spc="-1" strike="noStrike">
                <a:solidFill>
                  <a:srgbClr val="000000"/>
                </a:solidFill>
                <a:latin typeface="Yukon Fon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s learn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Behavioral Adaptation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600200" y="4876920"/>
            <a:ext cx="58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Behavioral Adaptations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 allow animals to respond to life need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AN04487_"/>
          <p:cNvPicPr/>
          <p:nvPr/>
        </p:nvPicPr>
        <p:blipFill>
          <a:blip r:embed="rId1"/>
          <a:stretch/>
        </p:blipFill>
        <p:spPr>
          <a:xfrm>
            <a:off x="3124080" y="2209680"/>
            <a:ext cx="2590920" cy="24051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wipe dir="l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523880" y="4343400"/>
            <a:ext cx="586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Each organism has unique methods of adapting to its environment by means of different 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676520" y="30492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Behavioral Adaptations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 are animals</a:t>
            </a:r>
            <a:r>
              <a:rPr b="0" lang="ja-JP" sz="3200" spc="-1" strike="noStrike">
                <a:solidFill>
                  <a:srgbClr val="000000"/>
                </a:solidFill>
                <a:latin typeface="Yukon Fon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 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80880" y="2514600"/>
            <a:ext cx="5867640" cy="9471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66"/>
                </a:solidFill>
                <a:latin typeface="Yukon Font"/>
              </a:rPr>
              <a:t>Remember that Physical Adaptations are body structures</a:t>
            </a:r>
            <a:r>
              <a:rPr b="0" i="1" lang="en-US" sz="2800" spc="-1" strike="noStrike">
                <a:solidFill>
                  <a:srgbClr val="000000"/>
                </a:solidFill>
                <a:latin typeface="Yukon Fon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crow"/>
          <p:cNvPicPr/>
          <p:nvPr/>
        </p:nvPicPr>
        <p:blipFill>
          <a:blip r:embed="rId1"/>
          <a:stretch/>
        </p:blipFill>
        <p:spPr>
          <a:xfrm>
            <a:off x="6477120" y="2209680"/>
            <a:ext cx="1600200" cy="14940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zoom dir="out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609480" y="30492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We can divide </a:t>
            </a: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Behavioral Adaptations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 into two groups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295280" y="22860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Instinctiv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181480" y="23623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Learned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295280" y="4191120"/>
            <a:ext cx="2438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behaviors happen naturally &amp; d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 have to be learn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181480" y="47242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behaviors must be taug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8" descr="7003"/>
          <p:cNvPicPr/>
          <p:nvPr/>
        </p:nvPicPr>
        <p:blipFill>
          <a:blip r:embed="rId1"/>
          <a:stretch/>
        </p:blipFill>
        <p:spPr>
          <a:xfrm>
            <a:off x="5257800" y="3048120"/>
            <a:ext cx="2286000" cy="1531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AN02614_"/>
          <p:cNvPicPr/>
          <p:nvPr/>
        </p:nvPicPr>
        <p:blipFill>
          <a:blip r:embed="rId2"/>
          <a:stretch/>
        </p:blipFill>
        <p:spPr>
          <a:xfrm>
            <a:off x="1752480" y="3200400"/>
            <a:ext cx="1836720" cy="7714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checker dir="vert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83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914400" y="1066680"/>
            <a:ext cx="2819520" cy="1676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066680" y="1295280"/>
            <a:ext cx="24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Instinctive behavio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952880" y="1295280"/>
            <a:ext cx="3581640" cy="2210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105520" y="1676520"/>
            <a:ext cx="3352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happen naturally &amp; don</a:t>
            </a:r>
            <a:r>
              <a:rPr b="0" lang="ja-JP" sz="3200" spc="-1" strike="noStrike">
                <a:solidFill>
                  <a:srgbClr val="000000"/>
                </a:solidFill>
                <a:latin typeface="Yukon Fon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t need to be lear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886200" y="18288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ukon Font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447920" y="52578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Yukon Font"/>
              </a:rPr>
              <a:t>Finding she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457200" y="426708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Yukon Font"/>
              </a:rPr>
              <a:t>Methods of gathering &amp; storing foo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276720" y="44956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Yukon Font"/>
              </a:rPr>
              <a:t>Defending one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4191120" y="525780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Yukon Font"/>
              </a:rPr>
              <a:t>Raising yo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5943600" y="44197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Yukon Font"/>
              </a:rPr>
              <a:t>Hiberna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6324480" y="525780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Yukon Font"/>
              </a:rPr>
              <a:t>Migr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6" descr="Dragnfly"/>
          <p:cNvPicPr/>
          <p:nvPr/>
        </p:nvPicPr>
        <p:blipFill>
          <a:blip r:embed="rId1"/>
          <a:stretch/>
        </p:blipFill>
        <p:spPr>
          <a:xfrm>
            <a:off x="3505320" y="3200400"/>
            <a:ext cx="877680" cy="960480"/>
          </a:xfrm>
          <a:prstGeom prst="rect">
            <a:avLst/>
          </a:prstGeom>
          <a:ln w="0">
            <a:noFill/>
          </a:ln>
        </p:spPr>
      </p:pic>
    </p:spTree>
  </p:cSld>
  <p:transition advTm="22000">
    <p:checker dir="horz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4800600" y="1219320"/>
            <a:ext cx="3962520" cy="3581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1219320" y="1219320"/>
            <a:ext cx="2286000" cy="1371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066680" y="1295280"/>
            <a:ext cx="24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Learned behavi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4952880" y="1371600"/>
            <a:ext cx="3810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Obtained by interacting with the environment and cannot be passed on to the next generation except by teac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3886200" y="18288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Yukon Font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8" descr="j0134761"/>
          <p:cNvPicPr/>
          <p:nvPr/>
        </p:nvPicPr>
        <p:blipFill>
          <a:blip r:embed="rId1"/>
          <a:stretch/>
        </p:blipFill>
        <p:spPr>
          <a:xfrm>
            <a:off x="1066680" y="2895480"/>
            <a:ext cx="3175200" cy="30225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zoom dir="out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1274400" y="304920"/>
            <a:ext cx="7392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In this lesson, we have learned abou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Yukon Font"/>
              </a:rPr>
              <a:t>animal adaptations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451440" y="2133720"/>
            <a:ext cx="81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There are 2 ways to describe adapt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980720" y="3048120"/>
            <a:ext cx="17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Phys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4197600" y="3048120"/>
            <a:ext cx="91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5590800" y="2971800"/>
            <a:ext cx="22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Behavi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7" descr="AN00816_"/>
          <p:cNvPicPr/>
          <p:nvPr/>
        </p:nvPicPr>
        <p:blipFill>
          <a:blip r:embed="rId2"/>
          <a:stretch/>
        </p:blipFill>
        <p:spPr>
          <a:xfrm>
            <a:off x="1676520" y="3962520"/>
            <a:ext cx="2057400" cy="1887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AN04487_"/>
          <p:cNvPicPr/>
          <p:nvPr/>
        </p:nvPicPr>
        <p:blipFill>
          <a:blip r:embed="rId3"/>
          <a:stretch/>
        </p:blipFill>
        <p:spPr>
          <a:xfrm>
            <a:off x="5715000" y="4108320"/>
            <a:ext cx="1752480" cy="16257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checker dir="horz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6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525240" y="533520"/>
            <a:ext cx="804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Physical adaptations are body struc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63600" y="1447920"/>
            <a:ext cx="866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Some examples of physical adaptations ar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2502720" y="243828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Camoufl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921400" y="3139920"/>
            <a:ext cx="17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Mimic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387240" y="4648320"/>
            <a:ext cx="459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Body coverings &amp; p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942640" y="3886200"/>
            <a:ext cx="37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Chemical defe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9" descr="1abu201"/>
          <p:cNvPicPr/>
          <p:nvPr/>
        </p:nvPicPr>
        <p:blipFill>
          <a:blip r:embed="rId2"/>
          <a:stretch/>
        </p:blipFill>
        <p:spPr>
          <a:xfrm>
            <a:off x="2133720" y="2514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1abu201"/>
          <p:cNvPicPr/>
          <p:nvPr/>
        </p:nvPicPr>
        <p:blipFill>
          <a:blip r:embed="rId3"/>
          <a:stretch/>
        </p:blipFill>
        <p:spPr>
          <a:xfrm>
            <a:off x="2590920" y="3962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img95"/>
          <p:cNvPicPr/>
          <p:nvPr/>
        </p:nvPicPr>
        <p:blipFill>
          <a:blip r:embed="rId4"/>
          <a:stretch/>
        </p:blipFill>
        <p:spPr>
          <a:xfrm>
            <a:off x="2514600" y="3276720"/>
            <a:ext cx="974880" cy="861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img95"/>
          <p:cNvPicPr/>
          <p:nvPr/>
        </p:nvPicPr>
        <p:blipFill>
          <a:blip r:embed="rId5"/>
          <a:stretch/>
        </p:blipFill>
        <p:spPr>
          <a:xfrm>
            <a:off x="3048120" y="4724280"/>
            <a:ext cx="974520" cy="86220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checker dir="horz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0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1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1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2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273600" y="533520"/>
            <a:ext cx="861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Behavioral Adaptations are animals</a:t>
            </a:r>
            <a:r>
              <a:rPr b="0" lang="ja-JP" sz="3200" spc="-1" strike="noStrike">
                <a:solidFill>
                  <a:srgbClr val="000000"/>
                </a:solidFill>
                <a:latin typeface="Yukon Font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 ac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1426320" y="1676520"/>
            <a:ext cx="599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Behavioral Adaptations can 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Instinctive or L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an01124_"/>
          <p:cNvPicPr/>
          <p:nvPr/>
        </p:nvPicPr>
        <p:blipFill>
          <a:blip r:embed="rId2"/>
          <a:stretch/>
        </p:blipFill>
        <p:spPr>
          <a:xfrm>
            <a:off x="3733920" y="3200400"/>
            <a:ext cx="1660320" cy="20210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checker dir="horz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447920" y="533520"/>
            <a:ext cx="624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Have you ever wondered how animals are able to survive in the wi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828800" y="5410080"/>
            <a:ext cx="5334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Animals have certain </a:t>
            </a: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adaptations </a:t>
            </a: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that help them to surv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AN01328_"/>
          <p:cNvPicPr/>
          <p:nvPr/>
        </p:nvPicPr>
        <p:blipFill>
          <a:blip r:embed="rId1"/>
          <a:stretch/>
        </p:blipFill>
        <p:spPr>
          <a:xfrm>
            <a:off x="7162920" y="5105520"/>
            <a:ext cx="1371600" cy="1109520"/>
          </a:xfrm>
          <a:prstGeom prst="rect">
            <a:avLst/>
          </a:prstGeom>
          <a:ln w="0">
            <a:noFill/>
          </a:ln>
        </p:spPr>
      </p:pic>
      <p:sp>
        <p:nvSpPr>
          <p:cNvPr id="51" name="Line 6"/>
          <p:cNvSpPr/>
          <p:nvPr/>
        </p:nvSpPr>
        <p:spPr>
          <a:xfrm flipH="1">
            <a:off x="6400800" y="3809880"/>
            <a:ext cx="1295280" cy="175284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7" descr="ZEBRAS"/>
          <p:cNvPicPr/>
          <p:nvPr/>
        </p:nvPicPr>
        <p:blipFill>
          <a:blip r:embed="rId2"/>
          <a:stretch/>
        </p:blipFill>
        <p:spPr>
          <a:xfrm>
            <a:off x="2133720" y="16002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blinds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8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2971800" y="609480"/>
            <a:ext cx="3200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Yukon Font"/>
              </a:rPr>
              <a:t>The next time you read about an animal in the wild, or when you see one on television, think about its adaptations…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WordArt 3"/>
          <p:cNvSpPr txBox="1"/>
          <p:nvPr/>
        </p:nvSpPr>
        <p:spPr>
          <a:xfrm>
            <a:off x="3886200" y="5334120"/>
            <a:ext cx="128592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>
                      <a:alpha val="75000"/>
                    </a:srgbClr>
                  </a:outerShdw>
                </a:effectLst>
                <a:latin typeface="Impact"/>
              </a:rPr>
              <a:t>The End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advTm="17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219320" y="38088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Think about the way you dress in the w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457200" y="28195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You don</a:t>
            </a:r>
            <a:r>
              <a:rPr b="0" lang="ja-JP" sz="2800" spc="-1" strike="noStrike">
                <a:solidFill>
                  <a:srgbClr val="000000"/>
                </a:solidFill>
                <a:latin typeface="Yukon Fon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t wear your shorts and bathing suit when it</a:t>
            </a:r>
            <a:r>
              <a:rPr b="0" lang="ja-JP" sz="2800" spc="-1" strike="noStrike">
                <a:solidFill>
                  <a:srgbClr val="000000"/>
                </a:solidFill>
                <a:latin typeface="Yukon Fon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s snowing outsi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209680" y="4343400"/>
            <a:ext cx="4876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Yukon Font"/>
              </a:rPr>
              <a:t>You wear warm clothes, and maybe even a hat and mittens to protect yourself  from the weath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j0318772"/>
          <p:cNvPicPr/>
          <p:nvPr/>
        </p:nvPicPr>
        <p:blipFill>
          <a:blip r:embed="rId1"/>
          <a:stretch/>
        </p:blipFill>
        <p:spPr>
          <a:xfrm>
            <a:off x="3809880" y="1143000"/>
            <a:ext cx="1524240" cy="1468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1981080" y="4114800"/>
            <a:ext cx="5105520" cy="2133720"/>
          </a:xfrm>
          <a:prstGeom prst="rect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7" descr="j0323744"/>
          <p:cNvPicPr/>
          <p:nvPr/>
        </p:nvPicPr>
        <p:blipFill>
          <a:blip r:embed="rId2"/>
          <a:stretch/>
        </p:blipFill>
        <p:spPr>
          <a:xfrm>
            <a:off x="7238880" y="5257800"/>
            <a:ext cx="1668600" cy="123516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blinds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762120" y="6858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And what if you are having a snowball figh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676520" y="3429000"/>
            <a:ext cx="5333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Yukon Font"/>
              </a:rPr>
              <a:t>You probably run away from the person throwing at you, and maybe even try to sneak up on that person and throw some snowball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4"/>
          <p:cNvSpPr/>
          <p:nvPr/>
        </p:nvSpPr>
        <p:spPr>
          <a:xfrm>
            <a:off x="1295280" y="2743200"/>
            <a:ext cx="6096240" cy="3276720"/>
          </a:xfrm>
          <a:prstGeom prst="ellipse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7" descr="j0136181"/>
          <p:cNvPicPr/>
          <p:nvPr/>
        </p:nvPicPr>
        <p:blipFill>
          <a:blip r:embed="rId1"/>
          <a:stretch/>
        </p:blipFill>
        <p:spPr>
          <a:xfrm>
            <a:off x="3429000" y="1219320"/>
            <a:ext cx="2309760" cy="24382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checker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685800" y="38088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The way you dress in the winter, as well as the way that you run and hide from someone throwing snow at you are kinds of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828800" y="39625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Adap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1828800" y="2666880"/>
            <a:ext cx="5181480" cy="3276720"/>
          </a:xfrm>
          <a:custGeom>
            <a:avLst/>
            <a:gdLst/>
            <a:ahLst/>
            <a:rect l="l" t="t" r="r" b="b"/>
            <a:pathLst>
              <a:path w="5181600" h="3276600">
                <a:moveTo>
                  <a:pt x="5" y="1251547"/>
                </a:moveTo>
                <a:lnTo>
                  <a:pt x="1979206" y="1251555"/>
                </a:lnTo>
                <a:lnTo>
                  <a:pt x="2590800" y="0"/>
                </a:lnTo>
                <a:lnTo>
                  <a:pt x="3202394" y="1251555"/>
                </a:lnTo>
                <a:lnTo>
                  <a:pt x="5181595" y="1251547"/>
                </a:lnTo>
                <a:lnTo>
                  <a:pt x="3580380" y="2025042"/>
                </a:lnTo>
                <a:lnTo>
                  <a:pt x="4191999" y="3276592"/>
                </a:lnTo>
                <a:lnTo>
                  <a:pt x="2590800" y="2503082"/>
                </a:lnTo>
                <a:lnTo>
                  <a:pt x="989601" y="3276592"/>
                </a:lnTo>
                <a:lnTo>
                  <a:pt x="1601220" y="2025042"/>
                </a:lnTo>
                <a:lnTo>
                  <a:pt x="5" y="1251547"/>
                </a:lnTo>
                <a:close/>
              </a:path>
            </a:pathLst>
          </a:custGeom>
          <a:noFill/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1143000" y="2209680"/>
            <a:ext cx="6553080" cy="4191120"/>
          </a:xfrm>
          <a:custGeom>
            <a:avLst/>
            <a:gdLst/>
            <a:ahLst/>
            <a:rect l="l" t="t" r="r" b="b"/>
            <a:pathLst>
              <a:path w="6553200" h="4191000">
                <a:moveTo>
                  <a:pt x="7" y="1600815"/>
                </a:moveTo>
                <a:lnTo>
                  <a:pt x="2503113" y="1600827"/>
                </a:lnTo>
                <a:lnTo>
                  <a:pt x="3276600" y="0"/>
                </a:lnTo>
                <a:lnTo>
                  <a:pt x="4050087" y="1600827"/>
                </a:lnTo>
                <a:lnTo>
                  <a:pt x="6553193" y="1600815"/>
                </a:lnTo>
                <a:lnTo>
                  <a:pt x="4528127" y="2590170"/>
                </a:lnTo>
                <a:lnTo>
                  <a:pt x="5301646" y="4190989"/>
                </a:lnTo>
                <a:lnTo>
                  <a:pt x="3276600" y="3201617"/>
                </a:lnTo>
                <a:lnTo>
                  <a:pt x="1251554" y="4190989"/>
                </a:lnTo>
                <a:lnTo>
                  <a:pt x="2025073" y="2590170"/>
                </a:lnTo>
                <a:lnTo>
                  <a:pt x="7" y="1600815"/>
                </a:lnTo>
                <a:close/>
              </a:path>
            </a:pathLst>
          </a:cu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990720" y="2057400"/>
            <a:ext cx="6553080" cy="4191120"/>
          </a:xfrm>
          <a:custGeom>
            <a:avLst/>
            <a:gdLst/>
            <a:ahLst/>
            <a:rect l="l" t="t" r="r" b="b"/>
            <a:pathLst>
              <a:path w="6553200" h="4191000">
                <a:moveTo>
                  <a:pt x="7" y="1600815"/>
                </a:moveTo>
                <a:lnTo>
                  <a:pt x="2503113" y="1600827"/>
                </a:lnTo>
                <a:lnTo>
                  <a:pt x="3276600" y="0"/>
                </a:lnTo>
                <a:lnTo>
                  <a:pt x="4050087" y="1600827"/>
                </a:lnTo>
                <a:lnTo>
                  <a:pt x="6553193" y="1600815"/>
                </a:lnTo>
                <a:lnTo>
                  <a:pt x="4528127" y="2590170"/>
                </a:lnTo>
                <a:lnTo>
                  <a:pt x="5301646" y="4190989"/>
                </a:lnTo>
                <a:lnTo>
                  <a:pt x="3276600" y="3201617"/>
                </a:lnTo>
                <a:lnTo>
                  <a:pt x="1251554" y="4190989"/>
                </a:lnTo>
                <a:lnTo>
                  <a:pt x="2025073" y="2590170"/>
                </a:lnTo>
                <a:lnTo>
                  <a:pt x="7" y="1600815"/>
                </a:lnTo>
                <a:close/>
              </a:path>
            </a:pathLst>
          </a:cu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9480" y="1676520"/>
            <a:ext cx="7315200" cy="4724280"/>
          </a:xfrm>
          <a:custGeom>
            <a:avLst/>
            <a:gdLst/>
            <a:ahLst/>
            <a:rect l="l" t="t" r="r" b="b"/>
            <a:pathLst>
              <a:path w="7315200" h="4724400">
                <a:moveTo>
                  <a:pt x="8" y="1804556"/>
                </a:moveTo>
                <a:lnTo>
                  <a:pt x="2794173" y="1804568"/>
                </a:lnTo>
                <a:lnTo>
                  <a:pt x="3657600" y="0"/>
                </a:lnTo>
                <a:lnTo>
                  <a:pt x="4521027" y="1804568"/>
                </a:lnTo>
                <a:lnTo>
                  <a:pt x="7315192" y="1804556"/>
                </a:lnTo>
                <a:lnTo>
                  <a:pt x="5054654" y="2919828"/>
                </a:lnTo>
                <a:lnTo>
                  <a:pt x="5918116" y="4724388"/>
                </a:lnTo>
                <a:lnTo>
                  <a:pt x="3657600" y="3609096"/>
                </a:lnTo>
                <a:lnTo>
                  <a:pt x="1397084" y="4724388"/>
                </a:lnTo>
                <a:lnTo>
                  <a:pt x="2260546" y="2919828"/>
                </a:lnTo>
                <a:lnTo>
                  <a:pt x="8" y="1804556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0">
    <p:cover dir="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838080" y="533520"/>
            <a:ext cx="708660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We can separate </a:t>
            </a: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adaptations</a:t>
            </a: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 into two categorie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5410080" y="2286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114800" y="3429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5486400" y="50292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Behavi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9"/>
          <p:cNvSpPr/>
          <p:nvPr/>
        </p:nvSpPr>
        <p:spPr>
          <a:xfrm>
            <a:off x="2438280" y="2362320"/>
            <a:ext cx="2667240" cy="121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1"/>
          <p:cNvSpPr/>
          <p:nvPr/>
        </p:nvSpPr>
        <p:spPr>
          <a:xfrm flipV="1">
            <a:off x="2286000" y="3657600"/>
            <a:ext cx="274320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2057400" y="1523880"/>
            <a:ext cx="12193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3" descr="facegrn"/>
          <p:cNvPicPr/>
          <p:nvPr/>
        </p:nvPicPr>
        <p:blipFill>
          <a:blip r:embed="rId1"/>
          <a:stretch/>
        </p:blipFill>
        <p:spPr>
          <a:xfrm>
            <a:off x="6269040" y="3048120"/>
            <a:ext cx="1576440" cy="17524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cover dir="l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7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7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1825"/>
                            </p:stCondLst>
                            <p:childTnLst>
                              <p:par>
                                <p:cTn id="19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7825"/>
                            </p:stCondLst>
                            <p:childTnLst>
                              <p:par>
                                <p:cTn id="196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4724280" y="304920"/>
            <a:ext cx="4038840" cy="38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Physical adap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are body structures that allow an animal to find and consume food, defend itself, and to reproduce its spe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5181480" y="4419720"/>
            <a:ext cx="30481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Yukon Font"/>
              </a:rPr>
              <a:t>Physical adaptations</a:t>
            </a:r>
            <a:r>
              <a:rPr b="0" lang="en-US" sz="2800" spc="-1" strike="noStrike">
                <a:solidFill>
                  <a:srgbClr val="000000"/>
                </a:solidFill>
                <a:latin typeface="Yukon Font"/>
              </a:rPr>
              <a:t> help an animal survive in its enviro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animal-camouflage-6"/>
          <p:cNvPicPr/>
          <p:nvPr/>
        </p:nvPicPr>
        <p:blipFill>
          <a:blip r:embed="rId1"/>
          <a:stretch/>
        </p:blipFill>
        <p:spPr>
          <a:xfrm>
            <a:off x="304920" y="304920"/>
            <a:ext cx="2708280" cy="628632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6"/>
          <p:cNvSpPr/>
          <p:nvPr/>
        </p:nvSpPr>
        <p:spPr>
          <a:xfrm rot="10798200">
            <a:off x="2514600" y="2514600"/>
            <a:ext cx="1905120" cy="2743200"/>
          </a:xfrm>
          <a:prstGeom prst="wedgeRoundRectCallout">
            <a:avLst>
              <a:gd name="adj1" fmla="val 106875"/>
              <a:gd name="adj2" fmla="val 93037"/>
              <a:gd name="adj3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y!  I</a:t>
            </a: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 a walking stick.  I look just like a stick you</a:t>
            </a: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find on the grou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380880" y="6477120"/>
            <a:ext cx="228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© A. Weinbe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0">
    <p:checker dir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2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1143000" y="1066680"/>
            <a:ext cx="68580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1752480" y="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Yukon Font"/>
              </a:rPr>
              <a:t>Physical adap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371600" y="1143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Yukon Font"/>
              </a:rPr>
              <a:t>Camouflage </a:t>
            </a:r>
            <a:r>
              <a:rPr b="0" lang="en-US" sz="2400" spc="-1" strike="noStrike">
                <a:solidFill>
                  <a:srgbClr val="000000"/>
                </a:solidFill>
                <a:latin typeface="Yukon Font"/>
              </a:rPr>
              <a:t>(use of color in a surroun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Dwarf Chameleon"/>
          <p:cNvPicPr/>
          <p:nvPr/>
        </p:nvPicPr>
        <p:blipFill>
          <a:blip r:embed="rId1"/>
          <a:stretch/>
        </p:blipFill>
        <p:spPr>
          <a:xfrm>
            <a:off x="2209680" y="2057400"/>
            <a:ext cx="4876920" cy="30081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762120" y="5257800"/>
            <a:ext cx="7772400" cy="1143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The chameleon can change its </a:t>
            </a:r>
            <a:r>
              <a:rPr b="0" lang="en-US" sz="2400" spc="-1" strike="noStrike">
                <a:solidFill>
                  <a:srgbClr val="cc0099"/>
                </a:solidFill>
                <a:latin typeface="Lucida Casual"/>
              </a:rPr>
              <a:t>c</a:t>
            </a:r>
            <a:r>
              <a:rPr b="0" lang="en-US" sz="2400" spc="-1" strike="noStrike">
                <a:solidFill>
                  <a:srgbClr val="ff9900"/>
                </a:solidFill>
                <a:latin typeface="Lucida Casual"/>
              </a:rPr>
              <a:t>o</a:t>
            </a:r>
            <a:r>
              <a:rPr b="0" lang="en-US" sz="2400" spc="-1" strike="noStrike">
                <a:solidFill>
                  <a:srgbClr val="000099"/>
                </a:solidFill>
                <a:latin typeface="Lucida Casual"/>
              </a:rPr>
              <a:t>l</a:t>
            </a:r>
            <a:r>
              <a:rPr b="0" lang="en-US" sz="2400" spc="-1" strike="noStrike">
                <a:solidFill>
                  <a:srgbClr val="ff00ff"/>
                </a:solidFill>
                <a:latin typeface="Lucida Casual"/>
              </a:rPr>
              <a:t>o</a:t>
            </a:r>
            <a:r>
              <a:rPr b="0" lang="en-US" sz="2400" spc="-1" strike="noStrike">
                <a:solidFill>
                  <a:srgbClr val="ff6600"/>
                </a:solidFill>
                <a:latin typeface="Lucida Casu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 to match its surroundings.  Can </a:t>
            </a:r>
            <a:r>
              <a:rPr b="1" lang="en-US" sz="2400" spc="-1" strike="noStrike">
                <a:solidFill>
                  <a:srgbClr val="000000"/>
                </a:solidFill>
                <a:latin typeface="Lucida Casual"/>
              </a:rPr>
              <a:t>you</a:t>
            </a: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 do tha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0">
    <p:strips dir="ru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3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838080" y="76212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Yukon Font"/>
              </a:rPr>
              <a:t>Mimic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Yukon Fon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Yukon Font"/>
              </a:rPr>
              <a:t>(looking or sounding like another living organis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monarch butterfly on milkweed"/>
          <p:cNvPicPr/>
          <p:nvPr/>
        </p:nvPicPr>
        <p:blipFill>
          <a:blip r:embed="rId1"/>
          <a:stretch/>
        </p:blipFill>
        <p:spPr>
          <a:xfrm>
            <a:off x="380880" y="3352680"/>
            <a:ext cx="3276720" cy="2190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vic01"/>
          <p:cNvPicPr/>
          <p:nvPr/>
        </p:nvPicPr>
        <p:blipFill>
          <a:blip r:embed="rId2"/>
          <a:stretch/>
        </p:blipFill>
        <p:spPr>
          <a:xfrm>
            <a:off x="5943600" y="4627440"/>
            <a:ext cx="2895480" cy="22305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685800" y="1981080"/>
            <a:ext cx="7772400" cy="114300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The Viceroy butterfly uses mimicry to look like the Monarch butterfly. Can you tell them apa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523880" y="55627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asual"/>
              </a:rPr>
              <a:t>Poison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6477120" y="43434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asual"/>
              </a:rPr>
              <a:t>Not poison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752480" y="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Yukon Font"/>
              </a:rPr>
              <a:t>Physical adap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838080" y="5791320"/>
            <a:ext cx="2438640" cy="82548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I</a:t>
            </a:r>
            <a:r>
              <a:rPr b="0" lang="ja-JP" sz="2400" spc="-1" strike="noStrike">
                <a:solidFill>
                  <a:srgbClr val="000000"/>
                </a:solidFill>
                <a:latin typeface="Lucida Casu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m the Monarc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6172200" y="3505320"/>
            <a:ext cx="2438280" cy="45972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I</a:t>
            </a:r>
            <a:r>
              <a:rPr b="0" lang="ja-JP" sz="2400" spc="-1" strike="noStrike">
                <a:solidFill>
                  <a:srgbClr val="000000"/>
                </a:solidFill>
                <a:latin typeface="Lucida Casu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Lucida Casual"/>
              </a:rPr>
              <a:t>m the Vicero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0">
    <p:checker dir="horz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8T16:50:29Z</dcterms:created>
  <dc:creator>Stanley Heath</dc:creator>
  <dc:description/>
  <dc:language>en-US</dc:language>
  <cp:lastModifiedBy>Manor ISD</cp:lastModifiedBy>
  <dcterms:modified xsi:type="dcterms:W3CDTF">2012-10-29T14:36:59Z</dcterms:modified>
  <cp:revision>33</cp:revision>
  <dc:subject/>
  <dc:title>PowerPoint Presentation</dc:title>
</cp:coreProperties>
</file>